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CF5DB-09DB-4FE0-B2E5-C4EA05E4B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3E820-F9B4-4AF7-9FF7-8E69E9C37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3CF8E-1013-4744-A5BB-8CFDBF4AC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3D28A-FA59-4358-BC4A-64129AC41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1A2D9-2326-411D-8B07-36BB717DE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C6B05-74CF-4E8F-9A3B-57A0AAD32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2D75E-5CF2-4CEF-B72D-71E280586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75603-6920-49EB-A574-78FD9879E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FB16D-38E5-4CFF-9798-921EDF90E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3CB8F-340E-4534-ACEC-78030B3BF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2D7D6-DB53-4D01-9172-6DE86457C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9DEB8-7560-42FD-99D1-DC1D44FFE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A38AA-5E6C-4D1D-96F2-3C15B63C73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Guide to the 1920’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3.1 Analyse the impact of changing technology and socioeconomic conditions on differing prosperities and lifestyles in Canada in the 1920s and 1930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entify the factors leading to prosperity in the 1920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amine the impact of new technology on lifestyle in the 1920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 World War I</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nada’s wartime economy had improved living conditions as many goods (weapons ammunition and food) were sold in Europe to support the war. This ended when the war ended as the demand from Europe fell.</a:t>
            </a:r>
            <a:endParaRPr b="0" lang="en-US" sz="36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soldiers returned home expecting employment but couldn’t find jobs because of the economic slump</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380880" y="380880"/>
            <a:ext cx="8229600" cy="4525920"/>
          </a:xfrm>
          <a:prstGeom prst="rect">
            <a:avLst/>
          </a:prstGeom>
          <a:noFill/>
          <a:ln w="0">
            <a:noFill/>
          </a:ln>
        </p:spPr>
        <p:txBody>
          <a:bodyPr anchor="t">
            <a:normAutofit fontScale="81000"/>
          </a:bodyPr>
          <a:p>
            <a:pPr marL="277560" indent="-2775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nadians became suspicious of new immigrants taking jobs from existing Canadians</a:t>
            </a:r>
            <a:endParaRPr b="0" lang="en-US" sz="3600" spc="-1" strike="noStrike">
              <a:solidFill>
                <a:srgbClr val="000000"/>
              </a:solidFill>
              <a:latin typeface="Arial"/>
            </a:endParaRPr>
          </a:p>
          <a:p>
            <a:pPr marL="277560" indent="-2775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itish Colombia, Ontario and Quebec became rich because the raw materials they possessed were still in high demand. (Forestry and mining)</a:t>
            </a:r>
            <a:endParaRPr b="0" lang="en-US" sz="3600" spc="-1" strike="noStrike">
              <a:solidFill>
                <a:srgbClr val="000000"/>
              </a:solidFill>
              <a:latin typeface="Arial"/>
            </a:endParaRPr>
          </a:p>
          <a:p>
            <a:pPr marL="277560" indent="-2775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rairies and the Maritimes suffered economic hardship as they could not compete with manufacturing in other provinces. Farmers and Fishers could not sell their goods.</a:t>
            </a:r>
            <a:endParaRPr b="0" lang="en-US" sz="3600" spc="-1" strike="noStrike">
              <a:solidFill>
                <a:srgbClr val="000000"/>
              </a:solidFill>
              <a:latin typeface="Arial"/>
            </a:endParaRPr>
          </a:p>
          <a:p>
            <a:pPr marL="277560" indent="-277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 in Fortun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mid 1920’s Canada’s economy began to improve there was more of a demand for exports of raw materi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investment and companies caused economic growth in Can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anadians became rich during this boom peri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ing Technologie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 War I brought about advances in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new inven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of the assembly 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gas and electrical powered machine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Handbook to the Roaring 20’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handbook for a visitor to Canada in the 1920’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what society is like after World War 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examples the consumer products of “The Haves” and explain the </a:t>
            </a:r>
            <a:r>
              <a:rPr b="1" lang="en-US" sz="2000" spc="-1" strike="noStrike">
                <a:solidFill>
                  <a:srgbClr val="000000"/>
                </a:solidFill>
                <a:latin typeface="Arial"/>
              </a:rPr>
              <a:t>installment plan</a:t>
            </a:r>
            <a:r>
              <a:rPr b="0" lang="en-US" sz="2000" spc="-1" strike="noStrike">
                <a:solidFill>
                  <a:srgbClr val="000000"/>
                </a:solidFill>
                <a:latin typeface="Arial"/>
              </a:rPr>
              <a:t> that allowed people to become consumers of the new technologies and inven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 examples of leisure, sports and entertainment activities and include some famous people of the da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tack of Decades” to find what was “in style” or new or important to society in the 1920’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Have Nots.”  Who are they? Where do they live in Canada? What opportunities do they miss out 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ndbook</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28195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pictures and inform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the “voice” that you write in. It’s a handbook for someone who wants to fit in in the 1920’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it in your own word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 Box 5"/>
          <p:cNvSpPr/>
          <p:nvPr/>
        </p:nvSpPr>
        <p:spPr>
          <a:xfrm>
            <a:off x="3962520" y="1676520"/>
            <a:ext cx="46321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 bibilography that includes the URL and the date it was accesse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image needs to have the url below i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title page and table of conte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andbook</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ublis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ppropriate templ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layout to add photos and 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not a group projec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book should be at least 6 pages including a title p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9T01:35:24Z</dcterms:created>
  <dc:creator>NBDOE</dc:creator>
  <dc:description/>
  <dc:language>en-US</dc:language>
  <cp:lastModifiedBy>DT06</cp:lastModifiedBy>
  <dcterms:modified xsi:type="dcterms:W3CDTF">2010-01-11T14:01:03Z</dcterms:modified>
  <cp:revision>16</cp:revision>
  <dc:subject/>
  <dc:title>A Guide to the 1920’s</dc:title>
</cp:coreProperties>
</file>